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4FA-259C-45A1-BF6D-14981CF1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4AE-12B4-49A8-B4E8-4E49DD3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667-A498-47BC-9015-42A0906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460-ADC2-4135-9749-F27F407B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4E6-12BF-4AB8-ABBA-E65AFF26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8EE-3B6E-4482-81BC-B7E94A79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CB3-186C-48AD-9E36-18771A16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476-8DCF-46B5-8314-DC235F8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257-B691-4AF0-8B48-B458859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BD4-F283-4F75-89D7-2F7AA9A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6C9-A1A4-4EC2-8134-9110EC3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ADA-9CDB-469B-8A63-D32B3FE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35F-8FED-4029-86D7-A9676096B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65530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ccess happens when you have the correc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istake = Focus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ntal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ow do I think about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Posture, Alertness, 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Robbins – Unlimi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10552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Add your 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’m not an 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+ at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Rockwell"/>
              </a:rPr>
              <a:t>+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tte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52480"/>
            <a:ext cx="6476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you ever gone bow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re do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ould be happy with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long as it wasn’t a gutter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tte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71600"/>
            <a:ext cx="647676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rn about your brai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of your brain thinks in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visualization is extremely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re are no “neg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ture a gutter ball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thinking ‘NOT THI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frequently result in a gutter b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… positive pictures only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1981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Spectators Allow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68580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 there were 3 groups of 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seniors got to go home with the researchers and play with the kids and the t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juniors got to go home … but stayed in cages and watched all th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the sophomores stayed in the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mice were the smar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9810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Spectators Allow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371600"/>
            <a:ext cx="72392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Learn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o Re-Invent i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ery interesting experiment from the early 195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ying mice the smartest BY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►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watching mice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similar mental stimul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re slightly better off than lab m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mor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Learning (connections between neurons) happens when you are actively ‘engag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60958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n Diamond – Learning Trees of th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1981080"/>
            <a:ext cx="1447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help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371600"/>
            <a:ext cx="69343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ew comment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 classes typicall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3-4 hours per week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2-3 hours of homework (really home 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hour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u owe me 5-6 hou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we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for it now, and see the effects of consistent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calc-08.wikispace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learning community – join now (to post/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“me” so help me learn what you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 lot of links on the Internet.  See the wiki for a set of links to try first.  And if you find a good one, shar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-2009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981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37160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ew comment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t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ongly recommen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tudents las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other teachers of AP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ing about YOUR understanding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y to understand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ws.harvard.edu/gazette/2006/02.23/05-a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ard Univers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courses are NOT a good predictor of college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single predictor: mathematical fl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least for sciences 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s vs. probl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actice vs.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5438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1600200" cy="5791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44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ty cheap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, Bob Wi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Calculus – 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81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371600"/>
            <a:ext cx="723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uses for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me how you are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eft: section in book; pages and proble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:      how many points the homework is i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right: name; date;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each problem, and write ou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t necessarily verba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 that it is easy to review and stud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n’t be entering a grade for each one, th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UST SE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d” answers will cause your homework to be rejec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0:43:39Z</dcterms:created>
  <dc:creator>Bob Wilder</dc:creator>
  <dc:description/>
  <dc:language>en-US</dc:language>
  <cp:lastModifiedBy>Bob Wilder</cp:lastModifiedBy>
  <dcterms:modified xsi:type="dcterms:W3CDTF">2009-07-26T16:54:02Z</dcterms:modified>
  <cp:revision>20</cp:revision>
  <dc:subject/>
  <dc:title>Slide 1</dc:title>
</cp:coreProperties>
</file>